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1B3-622F-4E8F-A864-8AE3D34F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5B8-3FCF-44DE-81E1-934C81F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026B5-1F48-44B8-9BD8-92FDCFD8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91E53-E5FA-4E6D-B70B-1903816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083B-42A1-4EF6-8933-2619C850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8061A-54FA-442A-BBFF-E5194AB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9F5F8-938F-4665-AA13-ADA78CA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A17FF-B187-4325-AADA-B8AFC57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72B17-F448-4130-B60D-A0F6791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327CD-1CF3-42D4-B209-1314F4ED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7AE3C-8D25-4F81-92C4-1CB0FBD0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166D4-FF2A-4C46-B957-F5BCEC8C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35C-A84C-457D-8C5E-500EE7C1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37616-FFDE-400E-AACD-FE86B8BB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C81BB-2241-4E4F-A9E5-50542F5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0DE1-6F31-43C9-AFDD-10D242B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22951-8EBF-4AB7-BEB7-8FACA90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9C5F1-36A3-4E99-8CB9-9D394C01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648F9-2CCD-4206-8C50-56B88A6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E370F-0397-47F7-B711-BE6EBC4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C94E5-B415-4C5B-9399-AC46167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2DFEE-A0C2-491A-818B-6C8EC88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58B73-0CBF-467D-AFF3-5FAED9BA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04C-2572-409E-A353-868FDDDC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27779-1D34-434E-8088-CAB77242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45392-7B15-4C2D-B5A0-62442F84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2DBDF-0885-4D6A-A9BE-4009B8C6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2C193-3E40-41C1-8AF8-942EC5E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F3198-E124-4CD2-9166-A4F01F8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E4CD-48C1-4203-A9F3-1D0A4E94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263FF-FBCB-4860-A916-F1305AB7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9B41-07C7-4663-9F26-72ED9C3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ACCC7-A4FD-4C83-A678-A4A5AF2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089FE-7392-4AAB-85AA-2BA530B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601-6996-4688-A284-25C7508A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14434-A871-4C3D-8832-5EE2A98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8801-2C43-4E0F-98CF-7C362AE3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86F9-2F73-477D-A920-BF9C1BBA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84FD0-72EE-4482-A459-30F2CC6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DA977-1B47-4609-B8B3-9970F698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80476-83A4-4E8F-93CA-B7D78EDC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2A714-857B-45B4-89BC-D6536FF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EFD90-FD55-4567-B750-F517735F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C6924-0C0D-4830-BE3E-A974F091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E1E62-3D5B-458A-BCE4-B767D29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C2E-6B64-4537-8E45-0F8FF689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5DDA5-DB83-42F5-A5AA-833C033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7B4F-D1B9-4197-A2EF-9EA4233C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E1034-B1C3-42C6-A520-25EC98D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178F4-CACF-437D-8E4E-BD2CE774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5B4E5-B09A-4633-AF50-82C3F6C3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3D071-3E1A-4B43-906A-ED12D142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E3907-5806-4F35-B8CD-44A1887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B1040-2BB1-4E17-A704-FAFD33F4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E6625-A9A4-493B-BDAD-B17AB45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F30AC-0492-4D3A-B05B-FC4F461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4A2F-6E65-4BAD-9EB3-52E28DB8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64A8E-D754-46C8-B7B1-D505A62F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B8AF9-862E-4373-B542-7FCB06F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F048A-316F-47C1-B28B-0A43BEB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DDC99-7605-4493-87F2-C99635B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2A415-6E93-4608-91BA-47A384CC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25103-6131-4535-AEE5-B03562D3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A719C-77AA-4AB5-A0BB-B508C58F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EC114-618A-4737-8122-4CBA4564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7E49A-EFC6-451F-9DA3-13F511C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19411-A9BD-4602-86DC-D85E6931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6F2-602A-4DEC-8A5D-B1E9D34F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BC536-B54A-49F6-BD97-87D4366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91102-A230-4443-A6F8-C26B667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441F3-3B08-4DA7-8845-A7BB8A2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C5AE7-1935-4A50-9BFB-60ADFF1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7A167-E651-41DA-BE94-9C6D881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B966F-1D3D-4DE6-A6BC-DDDAD04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48CC4-82D8-4B56-A50C-11FABD8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E2679-D6FA-484C-A724-6A1F9512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C2E21-410E-4F0C-A201-FA0087F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B0822-F9E6-47D7-A531-90FD780E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7FD3-EE60-47C5-9BA8-E706A9BA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634C9-2E05-4D62-8976-CF286E4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68B31-696B-400F-A768-72F5BCC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E2889-5460-4E94-8F23-CE0B6829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CBD89-91E9-4FCE-ADC0-D87E13FA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505CF-BB53-40FD-8FBD-B8C5564E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64881-6343-483A-BF9B-015B546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72266-791D-4978-812D-10F0272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40782-9D3B-415B-ABAB-6FFFCD1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32367-3DB0-4DD5-9548-6EE01D9F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A2FB7-1AEB-4191-8DF0-0EFA0398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2BEE-DC46-4202-AA09-B150A56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08ADB-D510-4F1D-86E5-55DF5521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2B7E-7B30-4D81-9174-A5B2A92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332-04A0-4B10-9E2E-876DCC15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9BDC-0082-4F47-898B-288AC74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A218-ECCF-4AF6-A96F-447FF66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D50E-3B36-4DDE-BAC1-2DC11BC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B69C-E845-47A1-82CC-70F60527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68C-CC4B-4BDD-94F1-AB54F47B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F2E8-9FA8-4CF7-92AA-B1BA8352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CF32-355C-40EE-8E69-2EFA6490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5812-E0E8-4474-B77B-02865915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A8ED-326B-4135-B710-B8C13F2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4006-6233-4462-ABA8-F82B40FD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2CD-8B0A-461F-A8C9-CC8D3BA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4676-9097-4F86-97DF-58990B9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9E7F-7882-4B3C-B92D-18AE397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9A4A-35C5-42F5-BBF1-A2A95A3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A396-A61A-4494-AE0D-6D09650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7B30-D68B-4BC8-88DB-20F2ED0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CEC5-DB91-48F2-BA7A-60667CC8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8297-C60D-4766-A3FF-B42EDE03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6C7A-1004-41E2-982B-DD12C6BB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546D-AA9E-4BB6-B782-D34C522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60B7-71A9-4F00-8CB5-05B6AFA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4F2-1C56-4503-8B36-8CCA2A7E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E2A0-B4ED-401C-9C8D-EDA35FD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BBEC-442D-4DD6-B75A-9FF3A64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5936D-2A69-466C-B8E2-8B504E5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F8F8-2258-4042-8B65-08B42D1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0D3F-1950-4020-ABC7-37AF8FE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5AF8-099E-4EE5-8497-E636097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0CCC4-2386-4882-95E4-4EBB6440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F9B8-6ED0-46E8-A450-68625808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4B9F-8953-4C20-AB4C-E241C2D2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0C672-40BE-4FA0-8B95-BE551EDA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CE3-626D-451B-AED6-3B8DC68B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6CD2-AC47-4C88-82FA-521CFD6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25E6-3F53-42E8-B5E1-F4984DC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1EED-4B4E-4367-9EFE-55C6B0E3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0186-514D-467B-980D-FAA3A9C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990CD-4EF8-484D-9F0B-76A75842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9CF7-D299-42E5-889E-27C2EC9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39BD0-BFF9-4800-81F6-D043737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A719-5923-458F-934B-A66A325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DFB7-6D20-47A6-881F-5CE6424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B7FC-ACA7-4CD1-900F-40AFDA85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F31-0D71-4CFA-89E6-F7319AB0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CFF6-4A13-40C4-B4DC-E1239EE5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19CCB-BFA5-4BA6-8D48-D5795242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EDDB5-72E2-4327-BB85-F3C30A0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D0914-BE51-404F-8123-F73C3810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331B-9F55-4F1D-85B1-E863618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FD4B7-A539-4197-8A31-547ADB86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68903-3780-4133-BA6B-3ABF2E77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D951-ECCA-4D37-B1BF-CB78FB7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B3B31-3916-42E7-8A5E-8706F6A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F888C-BA84-46BE-845A-2417962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6C7-BA84-4411-AE1D-D5FF4FDA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F0A3-4C51-4AB7-BFEB-2D0985C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1266-CF23-4773-9D0E-C78B480B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2E90-B03D-4EBA-BD72-83F957F9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206B-E201-45D0-B227-A0B3F743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037B-2DE4-4BEB-AC7F-1298A01A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E891-C93C-42E4-9A5A-0F78B27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C81A1-AE72-4227-AAAD-B6FD818D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236B3-3AA3-4678-9078-96A6AC16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C233-81BA-4924-A7C9-CEE3054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20C6-371D-416A-A708-375BAFEB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C06-838C-4F6E-9E1E-83A7105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02A1D-AB5E-4130-82A0-88367CF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9580-BA5E-488C-B125-481E970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B4B7-F359-4F39-9A9B-1F923F7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8996A-57DE-4B26-AAFE-B5FB9DA8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5D5F1-6B65-4A59-A0FD-CC3DFE10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8285-11ED-4B23-BC90-A52BC17B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67F2-EB22-45FE-A303-E6CE115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9C918-35CF-4BD4-87C3-3EADDC4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1077-0AE4-4045-B277-21C85B4C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B9BF2-9A38-47D2-9A29-BD03057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B3F-8A6D-45A5-AEF8-086342C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F6A2-34B0-4005-A1C7-09C7BC73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DE2DC-EE7A-4B67-B926-C1B24F62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3621-2151-4B4B-9D03-30FBB00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06E5-0F12-4253-B514-C5C83E2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3BB45-8583-4BAD-8EAB-2599A1A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5EF7-A4D9-45FB-9FF2-CB527B4B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127C-023F-49E1-B4BA-FAF5D2D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D4D95-E113-484B-9FF2-233DD2F7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5373-8E6C-4492-B143-8E64ED1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37345-2677-4B6E-A990-6118CF33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16283-A476-4E4E-99EF-662B930E46E5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CED91-573A-4DDE-A119-F5E163FDB76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38B7E-2F19-4C5D-884A-58DCD2E6E678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72428-EB78-4841-B949-F89EFF4B144F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9895A-D5DE-4D31-9CB8-3E7B9BF9468B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8FA0A-D758-47E7-8F35-98C562BBAE19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87BDE-842B-4C61-B0D2-F57A25170DBA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03F75-143A-4213-8F04-A08017FA0478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18BC3-FD02-4738-B3CF-D74837EA1145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74191-3313-4112-B854-C095469BE8B8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558F6-2283-4A8A-B7CA-CADC84ED5AAD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BFCB6-F027-4D70-9D53-26EF47F9E617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287BA-A669-4152-AD22-350AB4FA1009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B483E-DFC5-4A4E-B372-DBC230B46CA4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CD5FB-EAD9-4040-9AE3-9D2C2FCFD0D3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B7CE-7AF0-4B17-858B-7FEDEAEF7B08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56500-D075-4BDC-89C6-01EC976017D2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098A6-D6D6-4DBB-923D-B70CB717B1D5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B9C4B-FBA8-49E9-B528-56FC7863E1A3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D755B-CE97-406A-8F11-2E5FE7DFE424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13BAC-BA97-468D-B9AD-1C7A111809FF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1C9CB-6561-48DA-A78D-5AB82E5FAFAF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3FD95-39E9-4884-90B0-6F967711E56D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99FA5-3281-4D5B-9117-3F62D3D36960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4D2FB-C65A-4661-B4E4-4378FC931D85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98689-9D45-414B-9071-5817401727F6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5CDD4-65B2-4686-8872-A30F89570E01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EFA0A-4A09-4F48-8A39-4B094005D02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37296-3EEC-44A4-A1EC-310FBB3CA19A}" type="datetime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1CC09-4077-44CE-AB4F-B0823AFB21A1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Imperialism in India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Yoona Cha, HiJo Byeun, Jinna Park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Mohammed Ali Jinnah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429000" y="1905120"/>
            <a:ext cx="514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876-1948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nder of Pakistan + First Governor-Gener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eader of Muslim Leagu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2819520" cy="41878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5" descr=""/>
          <p:cNvPicPr/>
          <p:nvPr/>
        </p:nvPicPr>
        <p:blipFill>
          <a:blip r:embed="rId3"/>
          <a:stretch/>
        </p:blipFill>
        <p:spPr>
          <a:xfrm>
            <a:off x="457200" y="1089000"/>
            <a:ext cx="81154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alt March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713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930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56400" indent="-3564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 campaign proposed by Gandh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56400" indent="-3564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Gandhi sent a letter to Lord Lieutenant, but he did not even repl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56400" indent="-3564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Did not want to pay taxes placed on salt, thus walked a 200-mile journey from Ashram Ahmedabad to the Arabian to pick up a few grains of sal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56400" indent="-3564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Gandhi hoped to spread the action to the rest of In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069560" indent="-356400"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"Ashram in Exodus”: prayer, spinning and keeping a diary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7057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Muslim Leagu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ncepted in Dhaka 1906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uslims represented 40 % of the Indian populati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jority of Muslim leaders did not trust Hindu, thus were reluctant to join the Congress Party (Indian National Congress 1885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Amritsar Massacr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pril 13, 1919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lso known as Jallianwala Bagh Massac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ritish Indian Army under control of Reginald Dyer shot civilians of men, women and childre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round 1526 casualti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2"/>
          <a:stretch/>
        </p:blipFill>
        <p:spPr>
          <a:xfrm>
            <a:off x="5784840" y="3930480"/>
            <a:ext cx="27878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Indian Nationalism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ovement created by Indians to regain control of their countr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25160" indent="-425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ecame dissatisfied with restricted grants by the British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50320" indent="-42516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cked equal job opportunitie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50320" indent="-42516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Could not obtain jobs of high positions in government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5160" indent="-425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ore Indians received ‘quality’ education, thus developing dignity in the Indian heritag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25160" indent="-425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Indian Independence Movemen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various national and regional campaigns, agitations and efforts of both nonviolent and militant philosophy and involved a wide spectrum of political organizations, philosophies, and movements which had the common aim of ending the British Colonial Authority as well as other colonial administration in South Asia.”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828800" indent="-457200">
              <a:spcAft>
                <a:spcPts val="10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sto MT"/>
              </a:rPr>
              <a:t>http://en.wikipedia.org/wikiIndian_independence_movement</a:t>
            </a:r>
            <a:endParaRPr b="0" lang="en-US" sz="15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sto MT"/>
              </a:rPr>
              <a:t>First Meeting of Indian National Congress</a:t>
            </a:r>
            <a:endParaRPr b="0" lang="en-US" sz="49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ncepted in 1885 by middle class Indian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2520" indent="-4525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Goals: democracy, equality, self-rul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2520" indent="-4525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ubdivision of Bengal influenced more radical action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905040" indent="-45252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Ex) </a:t>
            </a:r>
            <a:r>
              <a:rPr b="0" i="1" lang="en-US" sz="2200" spc="-1" strike="noStrike">
                <a:solidFill>
                  <a:srgbClr val="000000"/>
                </a:solidFill>
                <a:latin typeface="Calisto MT"/>
              </a:rPr>
              <a:t>Swadeshi 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movement: the purchase and use of Indian made products and resources and boycott of foreign product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05040" indent="-452520"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Forerunner of Gandhi, and India’s independenc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Mohandas Karamchand Gandhi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71320" y="1905120"/>
            <a:ext cx="52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869-1948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83760" indent="-3837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olitical &amp; spiritual leader of India during British Imperialism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83760" indent="-3837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romoted passive boycotts (non-violence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767880" indent="-38376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Ex) Spinning whee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83760" indent="-3837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921, Gained leadership of Indian National Congres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83760" indent="-3837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chieved </a:t>
            </a:r>
            <a:r>
              <a:rPr b="0" i="1" lang="en-US" sz="2400" spc="-1" strike="noStrike">
                <a:solidFill>
                  <a:srgbClr val="000000"/>
                </a:solidFill>
                <a:latin typeface="Calisto MT"/>
              </a:rPr>
              <a:t>Swaraj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83760" indent="-3837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2"/>
          <a:stretch/>
        </p:blipFill>
        <p:spPr>
          <a:xfrm>
            <a:off x="6019920" y="1879560"/>
            <a:ext cx="28573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waraj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lf-governance”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1480" indent="-411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Gandhi’s concept of India’s independence from foreign dominati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22960" indent="-41148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"It may be taunted with the retort that this is all Utopian and, therefore not worth a single thought... Let India live for the true picture, though never realizable in its completeness. We must have a proper picture of what we want before we can have something approaching it.”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3" marL="1645920" indent="-41148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Parel, Anthony. </a:t>
            </a:r>
            <a:r>
              <a:rPr b="0" i="1" lang="en-US" sz="1200" spc="-1" strike="noStrike">
                <a:solidFill>
                  <a:srgbClr val="000000"/>
                </a:solidFill>
                <a:latin typeface="Calisto MT"/>
              </a:rPr>
              <a:t>Hind Swaraj and other writings of M. K. Gandhi. Cambridge University Press. Cambridge, 1997, pp 189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onsequenc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Good: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22960" indent="-41148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medical + technology development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22960" indent="-41148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Extended education (establishment of universities + schools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22960" indent="-41148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Terminate problems in Indian culture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2" marL="1234440" indent="-411480"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Ex) burning alive, child brides, caste system &lt;social ranks&gt;, etc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822960" indent="-41148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Infrastructure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2" marL="1234440" indent="-411480"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Ex) construction of roads, railroads, telegraph cables, and  canals &lt;Industrialization and modern science &gt;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Resourc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pium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eppe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innam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ndigo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extil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onsequences II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Prejudic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Coercion of labor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Influence of European customs on religious practice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Hindrance of economic progress, thus still one of the most substandard countries in the world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http://www.historyofwar.org/articles/battles_plassey.htm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http://murshidabad.gov.in/plassey.htm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http://en.wikipedia.org/wiki/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http://thenagain.info/webchron/India/IndiaNational.htm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http://www.mapsofindia.com/amritsar/massacre.htm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Mughal Empir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526 –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century/ earl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Developed highly sophisticated mixed Indo-Persian cultu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ecame weak towards the end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7" name="Picture 4" descr=""/>
          <p:cNvPicPr/>
          <p:nvPr/>
        </p:nvPicPr>
        <p:blipFill>
          <a:blip r:embed="rId2"/>
          <a:stretch/>
        </p:blipFill>
        <p:spPr>
          <a:xfrm>
            <a:off x="5283360" y="3124080"/>
            <a:ext cx="31748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British East India Company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713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joint-stock company formed by the British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used a tacit called “divide and conquer” to conquer In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bjective: make earnings for people through exploitation of natural resources founded in India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t up trading posts in In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Developed almost complete political &amp; economic contro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onopolized Indian trad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342720" indent="-34272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xpanded control in India through wars and commercial activit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epoy (Indian) Mutiny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857-1859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86680" indent="-44316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Sepoy: a soldier native to India who is allied to a European power (esp. UK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86680" indent="-44316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rebel against British East India Company for coercion of Christianity and other European custom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86680" indent="-443160"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Also known as India’s First War of Independenc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86680" indent="-443160">
              <a:spcAft>
                <a:spcPts val="1001"/>
              </a:spcAft>
              <a:buClr>
                <a:srgbClr val="8268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Resulted in direct British control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86680" indent="-443160">
              <a:spcAft>
                <a:spcPts val="1001"/>
              </a:spcAft>
              <a:buClr>
                <a:srgbClr val="8268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Ended with peace treaty (July 1858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86680" indent="-443160">
              <a:spcAft>
                <a:spcPts val="1001"/>
              </a:spcAft>
              <a:buClr>
                <a:srgbClr val="8268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Battle of Plassey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757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Victor: British East India Compan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Determined company rule in India (established in South Asia over next 90 years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386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Queen Victoria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877 became empress of In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Gave existing Indian royalties extended powers as long as they stayed faithful to the quee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Thugge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71320" y="1905120"/>
            <a:ext cx="415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 term for people who robbed and murdered travelers on the road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9" name="Picture 3" descr=""/>
          <p:cNvPicPr/>
          <p:nvPr/>
        </p:nvPicPr>
        <p:blipFill>
          <a:blip r:embed="rId2"/>
          <a:stretch/>
        </p:blipFill>
        <p:spPr>
          <a:xfrm>
            <a:off x="5156280" y="1295280"/>
            <a:ext cx="3809880" cy="2946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"/>
          <p:cNvPicPr/>
          <p:nvPr/>
        </p:nvPicPr>
        <p:blipFill>
          <a:blip r:embed="rId3"/>
          <a:stretch/>
        </p:blipFill>
        <p:spPr>
          <a:xfrm>
            <a:off x="3886200" y="4363920"/>
            <a:ext cx="50799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Jawaharlal Nehru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Prime Minister or In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eader of left-winged Indian National Congres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dvocated complete independence from the British Empi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ecognized as Gandhi's “political heir”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1:45:20Z</dcterms:created>
  <dc:creator>Yoona Cha</dc:creator>
  <dc:description/>
  <dc:language>en-US</dc:language>
  <cp:lastModifiedBy>Yoona Cha</cp:lastModifiedBy>
  <dcterms:modified xsi:type="dcterms:W3CDTF">2009-01-14T04:00:34Z</dcterms:modified>
  <cp:revision>14</cp:revision>
  <dc:subject/>
  <dc:title>Imperialism in India</dc:title>
</cp:coreProperties>
</file>